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66D-0CFC-4346-A25E-52FDE6BE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091-0604-4DFF-BF3C-1CB79A97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C71-B585-4078-852C-18EB5E07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F40-5D5C-48AF-906F-FA7A45EF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F19-8756-4400-A338-A0A7265A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F0D-C197-40FF-B9CD-85B3CF69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445-7F95-4ABE-91ED-DF1DDC8E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178-5C2F-4EAC-A1E3-C30BF225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EB4-A86E-4A00-BCAE-85698D32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6DF-1C0E-44DE-BF05-5078FB3F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007-969E-4A04-B138-4C799F9D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CDC-01AA-4B3C-80AB-149BEA90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7958-F399-4859-80E4-FBBADD555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in WW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eric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988560"/>
            <a:ext cx="89614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declaration that the US may use military force to restore internal stability to nations in the Americas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447920" y="1982520"/>
            <a:ext cx="62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d3746"/>
                </a:solidFill>
                <a:latin typeface="Times New Roman"/>
              </a:rPr>
              <a:t>Roosevelt Corollary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3275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12945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US went to war with Spain on this Caribbean island after the USS Maine explode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47920" y="274284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43f1e"/>
                </a:solidFill>
                <a:latin typeface="Times New Roman"/>
              </a:rPr>
              <a:t>Cub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447920" y="32796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-2362320"/>
            <a:ext cx="7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360" y="1981080"/>
            <a:ext cx="74674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40989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112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US went to war with Spain in this group of islands in the Pacific, aided by rebel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838080" y="1571760"/>
            <a:ext cx="69343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33cc"/>
                </a:solidFill>
                <a:latin typeface="Chalkboard Bold"/>
              </a:rPr>
              <a:t>Philippines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03880" y="29559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0" y="2710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Skia"/>
              </a:rPr>
              <a:t>Newspapers (led by owners such as William Randolph Hearst and Joseph Pulitzer) that sensationalized stories in order to increase sales became known as   __________ press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914400" y="2197800"/>
            <a:ext cx="7543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ff00"/>
                </a:solidFill>
                <a:latin typeface="Stencil"/>
              </a:rPr>
              <a:t>Yellow</a:t>
            </a:r>
            <a:endParaRPr b="1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561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1440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bel leader Emilio Aquinaldo fought first against Spanish colonizers and then against US forces that occupied his country. Where did he live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2133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43f1e"/>
                </a:solidFill>
                <a:latin typeface="Times New Roman"/>
              </a:rPr>
              <a:t>The Philippines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95280" y="2620800"/>
            <a:ext cx="6324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227880"/>
            <a:ext cx="8839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US annexed this territory after overthrowing the native queen and landing Marines in the territory to support a new, US-backed government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143000" y="18367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2182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Congressional action said that the US had the right to intervene in Cuban affairs to protect life, property, and liberty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213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The Platt Amendment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1143000" y="2412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e Central Powers included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5238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762120" y="1080"/>
            <a:ext cx="7772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Germany, Austria-Hungary, and the Ottoman Empire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0" y="-1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British Ocean Liner/Passenger Ship that was sunk by German U-Boats on May 7, 1915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523880" y="1981080"/>
            <a:ext cx="609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The Lusitani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0" y="9896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Great Britain, France and (Russia --&gt;until 1917) were members of the ______________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295280" y="1935000"/>
            <a:ext cx="701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000000"/>
                </a:solidFill>
                <a:uFillTx/>
                <a:latin typeface="Times New Roman"/>
              </a:rPr>
              <a:t>Allied Force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0" y="-18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is peace treaty, ending WWI, imposed harsh punishments on the countries that lost the war, particularly Germany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447920" y="1251000"/>
            <a:ext cx="624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Snell Roundhand Black"/>
              </a:rPr>
              <a:t>The Treaty of Versaille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1447920" y="274284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6620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ore than 4 million US troops served during WWI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rue or False?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447920" y="271404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99"/>
                </a:solidFill>
                <a:latin typeface="Times New Roman"/>
              </a:rPr>
              <a:t>TRUE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1494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At the beginning of WWI the U.S. was a ______ nation.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600200" y="265068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5331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The United States declared war on Germany during this year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__________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2590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1917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0" y="76356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 telegram from the German Foreign Minister requesting that Mexico declare war on the U.S. in 1917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19191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e Zimmerman Telegram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228600" y="44208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ongress passed a law saying that our First Amendment Right to “Freedom of Speech” could be curbed during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artim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0" y="2497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Sedition Act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2835360"/>
            <a:ext cx="6248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80880" y="7326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US gained this territory in the Caribbean; citizens there are ineligible to vote for members of  Congress or the  US President today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04920" y="2682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On the homefront, many _______ moved north to take jobs in steel mills, factories, and stockyard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143000" y="1917360"/>
            <a:ext cx="609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52280" y="53244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ney paid by a defeated country for damages to or expenditures made to another country as a result of hostilities or war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295280" y="29714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11abb"/>
                </a:solidFill>
                <a:latin typeface="Times New Roman"/>
              </a:rPr>
              <a:t>Reparation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6080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resident Wilson wanted to create this international organization to help avoid future conflicts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750240" y="2770920"/>
            <a:ext cx="769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League of Nations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85800" y="6094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ntense pride in ones Country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25426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d3746"/>
                </a:solidFill>
                <a:latin typeface="Times New Roman"/>
              </a:rPr>
              <a:t>Nationalism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79200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skerville"/>
              </a:rPr>
              <a:t>information used to promote or publicize a particular political cause or point of view</a:t>
            </a:r>
            <a:r>
              <a:rPr b="1" lang="en-US" sz="9600" spc="-1" strike="noStrike">
                <a:solidFill>
                  <a:srgbClr val="000000"/>
                </a:solidFill>
                <a:latin typeface="Baskerville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377360" y="2650680"/>
            <a:ext cx="648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99"/>
                </a:solidFill>
                <a:latin typeface="Times New Roman"/>
              </a:rPr>
              <a:t>propagand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447920" y="2010960"/>
            <a:ext cx="62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Puerto Rico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skerville"/>
              </a:rPr>
              <a:t>a policy of extending a country's trade, power and influence through diplomacy or military force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8600" y="2382480"/>
            <a:ext cx="7772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</a:rPr>
              <a:t>imperialism</a:t>
            </a:r>
            <a:endParaRPr b="1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0" y="530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fter requesting a lease in this country’s territory to build a canal and being denied, the US sent warships to intimidate and block this country from allowing its rebel province to become independen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33520" y="1341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d3746"/>
                </a:solidFill>
                <a:latin typeface="Times New Roman"/>
              </a:rPr>
              <a:t>Colombi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12963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use of a country’s financial power to extend its international influence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447920" y="1295280"/>
            <a:ext cx="624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99"/>
                </a:solidFill>
                <a:latin typeface="Times New Roman"/>
              </a:rPr>
              <a:t>Dollar Diplomacy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99"/>
                </a:solidFill>
                <a:latin typeface="Times New Roman"/>
              </a:rPr>
              <a:t>$$$$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; Eleanor Savko</dc:creator>
  <dc:description/>
  <dc:language>en-US</dc:language>
  <cp:lastModifiedBy>YHS Teacher</cp:lastModifiedBy>
  <cp:lastPrinted>2009-04-03T12:44:35Z</cp:lastPrinted>
  <dcterms:modified xsi:type="dcterms:W3CDTF">2009-04-03T17:56:36Z</dcterms:modified>
  <cp:revision>148</cp:revision>
  <dc:subject>Math 5A</dc:subject>
  <dc:title>Math Jeopardy</dc:title>
</cp:coreProperties>
</file>